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A8C-B60D-4B2F-899F-4AB1F433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B32-0DCE-439B-A9C4-AFB73122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305-F043-4573-A303-72691887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6D8-7EC2-4CCA-899B-6E220DCA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624-5297-4078-A857-9CE39EA4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291-3C40-42A7-9E4D-CCDC7E03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886-8745-45CA-BC9D-26B1AB5C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49E-4E78-410A-A6FB-B466FA21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225-1C93-4AD1-B953-81E6FDFA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B9A-88E5-4559-AF26-5661F7A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515-C475-4C43-840D-CD1E106E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6DB-AEC7-4386-BECD-5DBCC9F9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428A-A6D3-405A-A016-4034CA04A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3. Kirjeldusloogik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eldusloogikad (description logics) on intellektitehnikast pärit loogikad, mille ide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jääda lauseloogika hea analüüsitavuse ja predikaatloogika suure väljendusvõimsuse vahepe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eldusloogikad on mõeldud teadmiste esitamise formaalseks vahendi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kastide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metatakse sisaldus- ja võrdusväidete hulk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kas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 struktuuris M ehk M on T mudeliks, kui M kehtestab kõik T vä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-kast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ht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t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, kui leidu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del M nii, et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g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-kast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ht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etu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i kõig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delite M korr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-kast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ht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et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, kui kõig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delite M korral 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-kast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ht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õikumat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, kui kõig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delite M kor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õik eeltoodud probleemid on taandatavad kaetus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 parajasti siis, kui ta on kaetud mõisteg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kvivalentsed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kaetu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aetu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õiste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õikumatud parajasti siis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aetud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ühisosa on lubatud, siis on nad kõik taandatavad ka kehtestamatus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 kaetud parajasti siis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ekvivalentsed parajasti siis, k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lema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ma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õikumatud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.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matus on taandatav kõigile ülejäänud probleemid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 parajasti siis, kui ta on kaetud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 parajasti siis, kui ta on ekvivalentne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 parajasti siis, kui ta on lõikumatu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: Tuletusprobleemide keerukuse hindamiseks piisab, kui leida alumised tõkked kehtestamatuse probleemi keerukusele ja ülemised tõkked kaetuse probleem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ünta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elduskeele signatuuri moodustava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aarsed mõiste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ähistame CC)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aarsed rolli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ähistame R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elduskeelte süntaksi kategooriateks on mõisted ja rollid. Baaskeeles AL 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sateks rollideks atomaarsed rollid, aga mõisted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e etteantud signatuuri (CC; RC)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ntud järgmise induktiivse definitsiooni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 atomaarmõiste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õis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d (tühi mõiste, universaalne mõist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tomaarne mõiste, sii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atomaarne täiend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d, siis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ühisosa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tomaarne roll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, sii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atribuudi väärtuste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sendus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, siis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erikujuline eksist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nevates laiendustes lisanduvad üksikult või mitmekaupa järgmised tingim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õisted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ühend) (laiendus </a:t>
            </a:r>
            <a:r>
              <a:rPr b="0" lang="et-EE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roll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, sii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üldkujuline eksistents) (laiendus </a:t>
            </a:r>
            <a:r>
              <a:rPr b="0" lang="et-EE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roll, sii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d (arvukitsendused) (laiendus </a:t>
            </a:r>
            <a:r>
              <a:rPr b="0" lang="et-EE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, sii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 (üldkujuline täiend) (laiendus </a:t>
            </a:r>
            <a:r>
              <a:rPr b="0" lang="et-EE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 keerulisest mõistes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asChild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hasChild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Child.Female )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emanti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liseks struktuuriks signatuuri (CC; RC) jaoks on paar M = (D; I), kus 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õhihulk) on mingi mittetühi hulk ja I (interpretatsioon) on sõltuv funktsioon, mi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le atomaarmõistele seab vastavusse hulga D mingi alamhulga ning igale rollil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gi binaarse seose hulgal 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askeele AL puhul laiendatakse interpretatsioon I väärtustuseks [ 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gneva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 \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kkamate keelte puhul tuleb täiendavalt defineeri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# {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}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# {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}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 \ [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aldusv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valdis kujul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rdusväid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valdis kujul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mõi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aldusväid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 struktuuris M parajasti siis, kui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rdusväid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ib struktuuris M parajasti siis, kui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9:40:18Z</dcterms:created>
  <dc:creator>Tiina Zingel</dc:creator>
  <dc:description/>
  <dc:language>en-US</dc:language>
  <cp:lastModifiedBy>Tiina Zingel</cp:lastModifiedBy>
  <dcterms:modified xsi:type="dcterms:W3CDTF">2006-05-11T09:40:33Z</dcterms:modified>
  <cp:revision>1</cp:revision>
  <dc:subject/>
  <dc:title>11.3. Kirjeldusloogikad.</dc:title>
</cp:coreProperties>
</file>